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9B0-FC10-42D4-B526-8E6BC2B0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245-739B-469B-A9F1-934744B5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BA1-DE26-48CA-9EC9-F865A32D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038-6689-4598-80AE-8873F86F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647-9DA0-486E-983A-43A886DB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65A-31D3-49FF-8BE6-D66C1043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D0C-D0F7-440E-B505-B1AC4F80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D69-5577-4DA3-A168-F7A02560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0FA-74D0-4551-84C2-6E2D1F91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218-457B-4272-8CE7-D942F7C6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CCD-5F33-411D-BC25-95B2F74D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806-F70C-4525-A16F-7924C479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C7CA-5DCD-4B96-9327-2A67C41B5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=339668118,2326570983&amp;fm=21&amp;gp=0"/>
          <p:cNvPicPr/>
          <p:nvPr/>
        </p:nvPicPr>
        <p:blipFill>
          <a:blip r:embed="rId1"/>
          <a:srcRect l="0" t="0" r="0" b="5205"/>
          <a:stretch/>
        </p:blipFill>
        <p:spPr>
          <a:xfrm>
            <a:off x="0" y="0"/>
            <a:ext cx="9144000" cy="65008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160020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908000" y="69228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Let’s  play a gam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258920" y="2349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cc00"/>
                </a:solidFill>
                <a:latin typeface="Arial"/>
              </a:rPr>
              <a:t>让我们来玩个游戏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404315_185147074_2"/>
          <p:cNvPicPr/>
          <p:nvPr/>
        </p:nvPicPr>
        <p:blipFill>
          <a:blip r:embed="rId1"/>
          <a:srcRect l="0" t="0" r="0" b="4758"/>
          <a:stretch/>
        </p:blipFill>
        <p:spPr>
          <a:xfrm>
            <a:off x="-324000" y="-1108080"/>
            <a:ext cx="9753840" cy="8609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2195640" y="836640"/>
            <a:ext cx="3744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ff00"/>
                </a:solidFill>
                <a:latin typeface="Arial"/>
              </a:rPr>
              <a:t>看，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Arial"/>
              </a:rPr>
              <a:t>loo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5783029_112814098554_2"/>
          <p:cNvPicPr/>
          <p:nvPr/>
        </p:nvPicPr>
        <p:blipFill>
          <a:blip r:embed="rId1"/>
          <a:srcRect l="0" t="0" r="0" b="24089"/>
          <a:stretch/>
        </p:blipFill>
        <p:spPr>
          <a:xfrm>
            <a:off x="-324000" y="0"/>
            <a:ext cx="9753840" cy="53578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547640" y="907920"/>
            <a:ext cx="784872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7c80"/>
                </a:solidFill>
                <a:latin typeface="Arial"/>
              </a:rPr>
              <a:t>同学们，早上好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c80"/>
                </a:solidFill>
                <a:latin typeface="Arial"/>
              </a:rPr>
              <a:t>Good morning ,class 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u=1006504371,3763730691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2843280" y="4762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Touch your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11280" y="1628640"/>
            <a:ext cx="5184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One , touch your …n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Two , touch your …m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Three , touch your…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our , touch your…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916360" y="4581360"/>
            <a:ext cx="55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</a:rPr>
              <a:t>摸摸你的。。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儿童歌曲-ABC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0528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"/>
          <p:cNvPicPr/>
          <p:nvPr/>
        </p:nvPicPr>
        <p:blipFill>
          <a:blip r:embed="rId1"/>
          <a:srcRect l="0" t="0" r="0" b="1667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851280" y="191628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你好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320946_083121055395_2"/>
          <p:cNvPicPr/>
          <p:nvPr/>
        </p:nvPicPr>
        <p:blipFill>
          <a:blip r:embed="rId1"/>
          <a:srcRect l="0" t="0" r="0" b="6692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258920" y="191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I’m fine ,than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627280" y="350028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Arial"/>
              </a:rPr>
              <a:t>我很好，谢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5370144_234549036296_2"/>
          <p:cNvPicPr/>
          <p:nvPr/>
        </p:nvPicPr>
        <p:blipFill>
          <a:blip r:embed="rId1"/>
          <a:srcRect l="0" t="0" r="0" b="7289"/>
          <a:stretch/>
        </p:blipFill>
        <p:spPr>
          <a:xfrm>
            <a:off x="0" y="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3059280" y="1052640"/>
            <a:ext cx="302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tou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211640" y="2997360"/>
            <a:ext cx="28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</a:rPr>
              <a:t>触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age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2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鼻子</a:t>
            </a:r>
            <a:br>
              <a:rPr sz="6000"/>
            </a:b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n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0130315181633_yTssx"/>
          <p:cNvPicPr/>
          <p:nvPr/>
        </p:nvPicPr>
        <p:blipFill>
          <a:blip r:embed="rId1"/>
          <a:stretch/>
        </p:blipFill>
        <p:spPr>
          <a:xfrm>
            <a:off x="179280" y="260280"/>
            <a:ext cx="3936960" cy="3936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aec379310a55b31942c4e6a042a98226cffc1721"/>
          <p:cNvPicPr/>
          <p:nvPr/>
        </p:nvPicPr>
        <p:blipFill>
          <a:blip r:embed="rId2"/>
          <a:stretch/>
        </p:blipFill>
        <p:spPr>
          <a:xfrm>
            <a:off x="4932360" y="2997360"/>
            <a:ext cx="2857680" cy="24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352a16010GF-14V338"/>
          <p:cNvPicPr/>
          <p:nvPr/>
        </p:nvPicPr>
        <p:blipFill>
          <a:blip r:embed="rId1"/>
          <a:srcRect l="0" t="0" r="0" b="7815"/>
          <a:stretch/>
        </p:blipFill>
        <p:spPr>
          <a:xfrm>
            <a:off x="-324000" y="-243000"/>
            <a:ext cx="9753840" cy="674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u=1562740627,2945369275&amp;fm=23&amp;gp=0"/>
          <p:cNvPicPr/>
          <p:nvPr/>
        </p:nvPicPr>
        <p:blipFill>
          <a:blip r:embed="rId2"/>
          <a:stretch/>
        </p:blipFill>
        <p:spPr>
          <a:xfrm>
            <a:off x="324000" y="620640"/>
            <a:ext cx="4028760" cy="2857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5435640" y="1916280"/>
            <a:ext cx="3708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cc"/>
                </a:solidFill>
                <a:latin typeface="Arial"/>
              </a:rPr>
              <a:t>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cc"/>
                </a:solidFill>
                <a:latin typeface="Arial"/>
              </a:rPr>
              <a:t>mou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iddlex1ec330z"/>
          <p:cNvPicPr/>
          <p:nvPr/>
        </p:nvPicPr>
        <p:blipFill>
          <a:blip r:embed="rId1"/>
          <a:stretch/>
        </p:blipFill>
        <p:spPr>
          <a:xfrm>
            <a:off x="-541440" y="-531720"/>
            <a:ext cx="10201320" cy="7915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940360" y="0"/>
            <a:ext cx="4643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</a:rPr>
              <a:t>眼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ey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503a06c371068"/>
          <p:cNvPicPr/>
          <p:nvPr/>
        </p:nvPicPr>
        <p:blipFill>
          <a:blip r:embed="rId1"/>
          <a:stretch/>
        </p:blipFill>
        <p:spPr>
          <a:xfrm>
            <a:off x="0" y="189000"/>
            <a:ext cx="7451640" cy="6669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380360" y="981000"/>
            <a:ext cx="1584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耳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01:56:12Z</dcterms:created>
  <dc:creator>爽</dc:creator>
  <dc:description/>
  <dc:language>en-US</dc:language>
  <cp:lastModifiedBy>dreamsummit</cp:lastModifiedBy>
  <dcterms:modified xsi:type="dcterms:W3CDTF">2015-07-09T06:13:05Z</dcterms:modified>
  <cp:revision>4</cp:revision>
  <dc:subject/>
  <dc:title>幻灯片 1</dc:title>
</cp:coreProperties>
</file>